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60C-190B-4FE2-A6F6-4DAC9FCB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F68-0771-4DDE-B9B5-917B7499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EA0-1F18-424E-B366-DF69DD00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E52-1A87-45F0-A1F5-5A9BBEE0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37848-107B-40B7-A712-F22D2B59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AF39D-323D-42B3-B45A-060E742A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34D7C-6F50-49BE-85FB-5678D04B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FF87D-F84B-441A-950E-81C54741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970A6-FD69-4D00-8917-8E3CAB6A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FD7A6-510F-4702-BFF0-86BD9AD6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D5C15-2DA8-4265-A0E8-30184912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552-1067-495E-B367-59EEF16C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9E36A-72D3-40B0-878D-99509490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218DE-181C-4A8C-A66A-B0EA9D4D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411A4-ED93-432B-9DCE-F306CAB5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A574B-9A19-4CA3-8657-54DEADA4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D0935-BC4B-462D-A60D-D00D9863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69E-823A-46A4-AEEB-1CEF933E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EAD-3990-4E76-A4A6-1047A061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688-6059-4661-8795-451E5AEC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2F8-B0D4-41F5-AAB9-3DF4D682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9AB-0AED-4B88-93FF-37326B93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2A5-4E4E-4D71-9087-96409345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D89-0D79-4A31-B71F-2589CBF5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A430-354E-48E0-AD6E-A152A8150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49BE-4FC9-4ED6-8B77-E3C6B09F3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ahoma"/>
              </a:rPr>
              <a:t>Исследовательская работа по биологии на</a:t>
            </a:r>
            <a:r>
              <a:rPr b="1" i="1" lang="en-US" sz="40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ffff"/>
                </a:solidFill>
                <a:latin typeface="Tahoma"/>
              </a:rPr>
              <a:t>тему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«Сахарный диабет -наследственная болезнь моей семь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11200" y="5105520"/>
            <a:ext cx="5932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Выполнила: Малышенко Татья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Руководитель: Кравцова Ирина Владими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2009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. Теперь моя задача - узнать генотипы своих будущих детей. Так  как я точно не знаю своего генотипа и генотипа отца моего ребёнка, то будем проверять все возможные вариан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.  Если я (АА или Аа) выйду замуж за здорового человека (АА), то каковы генотипы моих детей (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)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-?                             А). Р3                          *       </a:t>
            </a:r>
            <a:r>
              <a:rPr b="1" i="1" lang="ru-RU" sz="4000" spc="-1" strike="noStrike">
                <a:solidFill>
                  <a:srgbClr val="ffff00"/>
                </a:solidFill>
                <a:latin typeface="Tahoma"/>
              </a:rPr>
              <a:t>?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АА               АА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Г            А                 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  АА- но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-731" t="50861" r="50274" b="0"/>
          <a:stretch/>
        </p:blipFill>
        <p:spPr>
          <a:xfrm>
            <a:off x="4932360" y="2637000"/>
            <a:ext cx="144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Б).                             Р3                               *      </a:t>
            </a:r>
            <a:r>
              <a:rPr b="1" i="1" lang="ru-RU" sz="4000" spc="-1" strike="noStrike">
                <a:solidFill>
                  <a:srgbClr val="ffff00"/>
                </a:solidFill>
                <a:latin typeface="Tahoma"/>
              </a:rPr>
              <a:t>?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Аа                       А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Г         А,а                       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    АА, Аа- нор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Вывод: Мои дети будут либо здоровы, либо являться носителями сахарного диабе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98ACA34F" descr=""/>
          <p:cNvPicPr/>
          <p:nvPr/>
        </p:nvPicPr>
        <p:blipFill>
          <a:blip r:embed="rId2"/>
          <a:srcRect l="17355" t="11513" r="40660" b="54599"/>
          <a:stretch/>
        </p:blipFill>
        <p:spPr>
          <a:xfrm>
            <a:off x="4140360" y="260280"/>
            <a:ext cx="187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. Предположим, что я (АА или Аа) выйду замуж за человека (Аа), который будет являться носителем сахарного диабета, то каковы генотипы моих детей (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)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-?                          А). Р3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*           </a:t>
            </a:r>
            <a:r>
              <a:rPr b="1" i="1" lang="ru-RU" sz="4000" spc="-1" strike="noStrike">
                <a:solidFill>
                  <a:srgbClr val="ffff00"/>
                </a:solidFill>
                <a:latin typeface="Tahoma"/>
              </a:rPr>
              <a:t>?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АА                          А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Г           А                          А,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  АА, Аа- нор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98ACA34F" descr=""/>
          <p:cNvPicPr/>
          <p:nvPr/>
        </p:nvPicPr>
        <p:blipFill>
          <a:blip r:embed="rId2"/>
          <a:srcRect l="52845" t="1718" r="1126" b="15427"/>
          <a:stretch/>
        </p:blipFill>
        <p:spPr>
          <a:xfrm>
            <a:off x="4716360" y="1197000"/>
            <a:ext cx="1584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Б).                               Р3                                *       </a:t>
            </a:r>
            <a:r>
              <a:rPr b="1" i="1" lang="ru-RU" sz="4000" spc="-1" strike="noStrike">
                <a:solidFill>
                  <a:srgbClr val="ffff00"/>
                </a:solidFill>
                <a:latin typeface="Tahoma"/>
              </a:rPr>
              <a:t>?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Аа                       А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Г             А, а                     А,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    АА, Аа, Аа, аа   3: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Н.    н.    н.  с.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Вывод: В этом случае дети могут быть как полностью здоровыми, так и носителями болезни и больными сахарным диабе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98ACA34F" descr=""/>
          <p:cNvPicPr/>
          <p:nvPr/>
        </p:nvPicPr>
        <p:blipFill>
          <a:blip r:embed="rId2"/>
          <a:srcRect l="17355" t="-50" r="0" b="54599"/>
          <a:stretch/>
        </p:blipFill>
        <p:spPr>
          <a:xfrm>
            <a:off x="4140360" y="404640"/>
            <a:ext cx="2447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III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. Если я (АА или Аа) выйду замуж за человека (аа), который будет болен сахарным диабетом, то каковы будут генотипы моих детей (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)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-?                               А). Р3                       *  </a:t>
            </a:r>
            <a:r>
              <a:rPr b="1" i="1" lang="ru-RU" sz="4000" spc="-1" strike="noStrike">
                <a:solidFill>
                  <a:srgbClr val="ffff00"/>
                </a:solidFill>
                <a:latin typeface="Tahoma"/>
              </a:rPr>
              <a:t>   ?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АА                    а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Г          А                      а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  А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98ACA34F" descr=""/>
          <p:cNvPicPr/>
          <p:nvPr/>
        </p:nvPicPr>
        <p:blipFill>
          <a:blip r:embed="rId2"/>
          <a:srcRect l="52845" t="1718" r="1126" b="15427"/>
          <a:stretch/>
        </p:blipFill>
        <p:spPr>
          <a:xfrm>
            <a:off x="5148360" y="1557360"/>
            <a:ext cx="1511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Б).                                  Р3                                *     </a:t>
            </a:r>
            <a:r>
              <a:rPr b="1" i="1" lang="ru-RU" sz="40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Аа                    а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Г            А,а                   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4    Аа , аа    1:1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н.     С.д.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Вывод: В этом случае мои дети будут либо носителями, либо больными сахарным диабет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98ACA34F" descr=""/>
          <p:cNvPicPr/>
          <p:nvPr/>
        </p:nvPicPr>
        <p:blipFill>
          <a:blip r:embed="rId2"/>
          <a:srcRect l="17355" t="-50" r="0" b="54599"/>
          <a:stretch/>
        </p:blipFill>
        <p:spPr>
          <a:xfrm>
            <a:off x="4427640" y="692280"/>
            <a:ext cx="2411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ahoma"/>
              </a:rPr>
              <a:t>Результат моих наблюдени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Я узнала многое: то, что у меня не проявится сахарный диабет, но вот у моих детей генотипы вообще будут зависеть от генотипа отца моих детей. Сахарный диабет у моих детей может проявиться в двух случаях - когда мой генотип и генотип отца моих детей будут таки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1.   Аа , А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2.   Аа , а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Так что лучше, чтобы отец моих детей не имел такие генотипы, т.к. с сахарным диабетом жить очень слож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Почему я взяла эту тем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Я взяла эту тему, потому что она очень познавательна.  Мне хочется проследить основные закономерности наследственности на примере своей семь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Цель моей рабо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Проследить передачу наследственной болезни (сахарного диабета) из поколения в поколен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Актуа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Актуальность моей темы состоит в том, что в мире очень много диабетиков, я помогу вам и постараюсь сама на основе изученного мною материала оградиться от заболевания сахарным диабет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Ожидаемый результа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Я хочу знать: проявится ли у меня сахарный диабет в пожилом возрасте, и будут ли болеть или являться носителями сахарного диабета мои де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ahoma"/>
              </a:rPr>
              <a:t>Мои наблюдения за передачей наследственной болезни- сахарного диабет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62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1.Свои наблюдения начну с прабабушки (аа), которая была больна сахарным диабетом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типа и прадедушки (Аа), который был носителем этой болезни. Узнаем генотипы первого поколения (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1)-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Дано:                                                         Реш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а - сахарный диабет               Р                    *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А – норма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аа                  Аа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Г          а                   А,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1-?                           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1  Аа, аа      1: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н.   с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226B72D6" descr=""/>
          <p:cNvPicPr/>
          <p:nvPr/>
        </p:nvPicPr>
        <p:blipFill>
          <a:blip r:embed="rId2">
            <a:grayscl/>
          </a:blip>
          <a:srcRect l="57595" t="0" r="0" b="4873"/>
          <a:stretch/>
        </p:blipFill>
        <p:spPr>
          <a:xfrm>
            <a:off x="5435640" y="2708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226B72D6" descr=""/>
          <p:cNvPicPr/>
          <p:nvPr/>
        </p:nvPicPr>
        <p:blipFill>
          <a:blip r:embed="rId3">
            <a:grayscl/>
            <a:lum contrast="6000"/>
          </a:blip>
          <a:srcRect l="0" t="0" r="57800" b="4873"/>
          <a:stretch/>
        </p:blipFill>
        <p:spPr>
          <a:xfrm>
            <a:off x="7524720" y="2781360"/>
            <a:ext cx="1171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2. Моя бабушка (аа) больна сахарным диабетом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типа, дедушка (АА) же полностью здоров. Мне предстоит узнать генотип моей мамы (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2-?                           Р-1                           *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аа                        Аа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Г             а                        А ,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2     Аа – но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51314" t="0" r="0" b="54004"/>
          <a:stretch/>
        </p:blipFill>
        <p:spPr>
          <a:xfrm>
            <a:off x="4211640" y="170028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50064" t="52322" r="-731" b="0"/>
          <a:stretch/>
        </p:blipFill>
        <p:spPr>
          <a:xfrm>
            <a:off x="6877080" y="1700280"/>
            <a:ext cx="2087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3. Мама (Аа) здорова, но тем не менее она является носителем болезни. Папа (АА) абсолютно здоров. Каков мой генотип (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3)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3-?                                Р-2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*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А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Аа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Г         А,а                  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3     АА, Аа- нор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Какой из этих генотипов мой (Аа или АА) я не знаю. Но знаю то, что могу быть либо абсолютно здоровой (АА), либо носителем (Аа) сахарного диабета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типа, т.к. сахарный диабет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типа  бывает только врождённым, а при рождении и в дальнейшем у меня его не обнаружилос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52014" t="51351" r="0" b="0"/>
          <a:stretch/>
        </p:blipFill>
        <p:spPr>
          <a:xfrm>
            <a:off x="4643280" y="1341360"/>
            <a:ext cx="14400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6:08:24Z</dcterms:created>
  <dc:creator>Гальская</dc:creator>
  <dc:description/>
  <dc:language>en-US</dc:language>
  <cp:lastModifiedBy>Ирина Владимировна</cp:lastModifiedBy>
  <dcterms:modified xsi:type="dcterms:W3CDTF">2010-01-29T09:54:33Z</dcterms:modified>
  <cp:revision>18</cp:revision>
  <dc:subject/>
  <dc:title>        Передача                                                     наследственных                                   болезней.</dc:title>
</cp:coreProperties>
</file>